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A750-2FC3-4438-B43B-4923C5743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5378-BC80-4943-9C89-33AE6F8D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7B95-D435-4D93-82A1-B6E6F02A6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EDD4-C9E9-43E8-82CD-1C0934048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C73B-F41D-4AC6-9B26-810A9703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D9CE-ACD4-48A7-B595-455E8397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536C-52D3-48BC-A591-A08E1921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E9F3-11AF-417E-B505-1B25367D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8D7D-7E4A-4A60-906B-EEFA6D05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EDF2-1D28-4CD4-9C0A-184903A6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FE60-4328-48A0-A794-E65EFEBE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0D99-AF0E-4477-82CF-4ADB1461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3F8E-899D-4B45-B3B2-F1D9E5F9C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athkang.org/swf/pythagore2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dcab"/>
            </a:gs>
            <a:gs pos="50000">
              <a:srgbClr val="ff9900"/>
            </a:gs>
            <a:gs pos="100000">
              <a:srgbClr val="fedc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ytagorova veta 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76360" y="907920"/>
            <a:ext cx="590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ypočítaj dĺžku odvesny, ak poznáme dĺžku odvesny : b=3 cm a prepony c=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26028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íklad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63640" y="2565360"/>
            <a:ext cx="4969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=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+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=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+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25=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+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=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763640" y="5373720"/>
                <a:ext cx="12240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1619280" y="5950080"/>
            <a:ext cx="136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a=4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8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4000"/>
                            </p:stCondLst>
                            <p:childTnLst>
                              <p:par>
                                <p:cTn id="315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8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8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6000"/>
                            </p:stCondLst>
                            <p:childTnLst>
                              <p:par>
                                <p:cTn id="324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8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3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8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2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8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1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0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0099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203640" y="69228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ook Antiqua"/>
              </a:rPr>
              <a:t>Konie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3284640"/>
            <a:ext cx="6624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Autori: Alexandra Pastvov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cc"/>
                </a:solidFill>
                <a:latin typeface="Monotype Corsiva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Lucia Vitázkov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8000" y="5589720"/>
            <a:ext cx="381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Monotype Corsiva"/>
              </a:rPr>
              <a:t>Vyrobené v šk. roku 2004/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60"/>
                            </p:stCondLst>
                            <p:childTnLst>
                              <p:par>
                                <p:cTn id="38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1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1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1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efefe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295880" y="4097160"/>
            <a:ext cx="1008000" cy="107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55880" y="2657520"/>
            <a:ext cx="1440000" cy="1439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9548000">
            <a:off x="4642920" y="1988640"/>
            <a:ext cx="1792440" cy="17733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84360" y="76500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ytagorejský trojuholní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27640" y="393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926520" y="2637000"/>
            <a:ext cx="1366200" cy="1584720"/>
            <a:chOff x="3926520" y="2637000"/>
            <a:chExt cx="1366200" cy="1584720"/>
          </a:xfrm>
        </p:grpSpPr>
        <p:grpSp>
          <p:nvGrpSpPr>
            <p:cNvPr id="48" name=""/>
            <p:cNvGrpSpPr/>
            <p:nvPr/>
          </p:nvGrpSpPr>
          <p:grpSpPr>
            <a:xfrm>
              <a:off x="3926520" y="2637000"/>
              <a:ext cx="1366200" cy="1584720"/>
              <a:chOff x="3926520" y="2637000"/>
              <a:chExt cx="1366200" cy="1584720"/>
            </a:xfrm>
          </p:grpSpPr>
          <p:sp>
            <p:nvSpPr>
              <p:cNvPr id="49" name=""/>
              <p:cNvSpPr/>
              <p:nvPr/>
            </p:nvSpPr>
            <p:spPr>
              <a:xfrm>
                <a:off x="4284720" y="2637000"/>
                <a:ext cx="1008000" cy="1439640"/>
              </a:xfrm>
              <a:prstGeom prst="rtTriangl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926520" y="3790800"/>
                <a:ext cx="716400" cy="43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61696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6169699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4427640" y="3860640"/>
              <a:ext cx="7128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9000"/>
                            </p:stCondLst>
                            <p:childTnLst>
                              <p:par>
                                <p:cTn id="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26920" y="2276640"/>
            <a:ext cx="7561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ah štvorcov nad preponou pravouhlého trojuholníka sa rovná súčtu obsahov štvorcov nad oboma jeho odvesnam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66ff6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ytago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7280" y="4076640"/>
            <a:ext cx="56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 si chcete pozrieť prezentáciu na internete, tak si kliknite na Pytagor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9552200">
            <a:off x="2340000" y="2349360"/>
            <a:ext cx="1295280" cy="1150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99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284720" y="4076640"/>
            <a:ext cx="1008000" cy="107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55880" y="2657520"/>
            <a:ext cx="1440000" cy="1439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9548000">
            <a:off x="4642920" y="1988640"/>
            <a:ext cx="1792440" cy="17733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76500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ytagorejský trojuholní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32000" y="2997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4724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51640" y="24922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19640" y="4005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95640" y="234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4149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84720" y="2637000"/>
            <a:ext cx="1008000" cy="1439640"/>
          </a:xfrm>
          <a:prstGeom prst="rtTriangl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4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8400"/>
                            </p:stCondLst>
                            <p:childTnLst>
                              <p:par>
                                <p:cTn id="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400"/>
                            </p:stCondLst>
                            <p:childTnLst>
                              <p:par>
                                <p:cTn id="9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400"/>
                            </p:stCondLst>
                            <p:childTnLst>
                              <p:par>
                                <p:cTn id="1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7400"/>
                            </p:stCondLst>
                            <p:childTnLst>
                              <p:par>
                                <p:cTn id="1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8400"/>
                            </p:stCondLst>
                            <p:childTnLst>
                              <p:par>
                                <p:cTn id="1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9400"/>
                            </p:stCondLst>
                            <p:childTnLst>
                              <p:par>
                                <p:cTn id="11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400"/>
                            </p:stCondLst>
                            <p:childTnLst>
                              <p:par>
                                <p:cTn id="12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1400"/>
                            </p:stCondLst>
                            <p:childTnLst>
                              <p:par>
                                <p:cTn id="1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34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0920" y="3284640"/>
            <a:ext cx="8569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avouhlý trojuholní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 celočíselnými dĺžkami strá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9080" y="907920"/>
            <a:ext cx="670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Pytagorejský trojuholní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9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da"/>
            </a:gs>
            <a:gs pos="50000">
              <a:srgbClr val="ffff66"/>
            </a:gs>
            <a:gs pos="100000">
              <a:srgbClr val="fefe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627280" y="278136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7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lang="en-US" sz="7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7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a8a8a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419640" y="189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íklad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836640"/>
            <a:ext cx="590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ypočítaj dĺžku prepony, ak poznáme dĺžky odvesien: a=4 cm, b=3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32000" y="1773360"/>
            <a:ext cx="35272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Monotype Corsiva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=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+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Monotype Corsiva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= 4</a:t>
            </a:r>
            <a:r>
              <a:rPr b="0" lang="en-US" sz="3600" spc="-1" strike="noStrike" baseline="30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+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Monotype Corsiva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= 16+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Monotype Corsiva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=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403280" y="4869000"/>
                <a:ext cx="16560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1332000" y="558972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c=5 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400"/>
                            </p:stCondLst>
                            <p:childTnLst>
                              <p:par>
                                <p:cTn id="18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400"/>
                            </p:stCondLst>
                            <p:childTnLst>
                              <p:par>
                                <p:cTn id="1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400"/>
                            </p:stCondLst>
                            <p:childTnLst>
                              <p:par>
                                <p:cTn id="20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8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400"/>
                            </p:stCondLst>
                            <p:childTnLst>
                              <p:par>
                                <p:cTn id="2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8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7400"/>
                            </p:stCondLst>
                            <p:childTnLst>
                              <p:par>
                                <p:cTn id="2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8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8400"/>
                            </p:stCondLst>
                            <p:childTnLst>
                              <p:par>
                                <p:cTn id="230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400"/>
                            </p:stCondLst>
                            <p:childTnLst>
                              <p:par>
                                <p:cTn id="239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76360" y="907920"/>
            <a:ext cx="590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ypočítaj dĺžku odvesny, ak poznáme dĺžku odvesny : a=4 cm a prepony c=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87640" y="26028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íklad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63640" y="2565360"/>
            <a:ext cx="4969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=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+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=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+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25=16+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=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835280" y="5373720"/>
                <a:ext cx="9363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1692360" y="6021360"/>
            <a:ext cx="136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b=3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8500"/>
                            </p:stCondLst>
                            <p:childTnLst>
                              <p:par>
                                <p:cTn id="27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8500"/>
                            </p:stCondLst>
                            <p:childTnLst>
                              <p:par>
                                <p:cTn id="28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3500"/>
                            </p:stCondLst>
                            <p:childTnLst>
                              <p:par>
                                <p:cTn id="286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9500"/>
                            </p:stCondLst>
                            <p:childTnLst>
                              <p:par>
                                <p:cTn id="29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9T10:52:16Z</dcterms:created>
  <dc:creator>žiak</dc:creator>
  <dc:description/>
  <dc:language>en-US</dc:language>
  <cp:lastModifiedBy>Lubo a Erika</cp:lastModifiedBy>
  <dcterms:modified xsi:type="dcterms:W3CDTF">2005-08-07T05:56:09Z</dcterms:modified>
  <cp:revision>9</cp:revision>
  <dc:subject/>
  <dc:title>Snímka 1</dc:title>
</cp:coreProperties>
</file>